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922-6D8D-4637-83A1-2C908CBB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033-A813-4D64-922E-6F7E2D0D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56F-C3F9-4717-A8BC-5B44176A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4AF-C7D5-4220-BC49-777F6DD5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C92E-864C-4314-97CC-496E92FF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76B-B0A7-457B-90B5-17B87A1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724-88EE-449A-A39F-8D29A3C6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C60E-314C-47C3-B82B-80D4371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7824-6466-4BC6-9AEA-0F22B20A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D2E5-F781-453E-A1E3-C73E8CD1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39BA-EBA7-4534-8C71-2B7AA7A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32C-E656-4888-9127-CE14379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E149-6926-47BC-8A5F-185DECB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EA73-3FA3-41C7-8638-D47C4C6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3A33-C9DE-4862-B3DF-86C72C2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E21B-3B1F-4BC3-95AF-A7C20C1B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110E-EC5A-4C7A-A6FB-96400F99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5C4-D3A2-4374-BC54-BE2897A7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1E7-13FE-474C-8ED2-C0D5F088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21E-1D86-4322-A9A3-9947432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F00-2FFC-4C1D-9E25-9303C69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8D9-30D0-4F77-9F45-6650795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DD3-5C00-40EB-BBC9-C1D1CBE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3C6-7EAD-42A8-8185-9CD4F93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5A77-D38A-411A-A5FC-C241A1AC99C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5FA-7055-4AD2-BFB2-7EEAD947EA5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rcRect l="8610" t="3482" r="1160" b="17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0" y="4164120"/>
            <a:ext cx="91440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285840" y="357120"/>
            <a:ext cx="5500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Позже учение пифагорейцев о правильных многогранниках изложил в своих трудах другой древнегреческий учёный, философ - идеалист Платон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С тех пор правильные многогранники стали называться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Платоновыми телами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2" name="Рисунок 4" descr="Платон.jpg"/>
          <p:cNvPicPr/>
          <p:nvPr/>
        </p:nvPicPr>
        <p:blipFill>
          <a:blip r:embed="rId1"/>
          <a:stretch/>
        </p:blipFill>
        <p:spPr>
          <a:xfrm>
            <a:off x="5929200" y="1500120"/>
            <a:ext cx="2928960" cy="3727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5"/>
          <p:cNvSpPr/>
          <p:nvPr/>
        </p:nvSpPr>
        <p:spPr>
          <a:xfrm>
            <a:off x="5786280" y="542916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Платон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(428 – 348 г. до н.э.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285840" y="714240"/>
            <a:ext cx="5857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Правильным многогранникам посвящена последняя, XIII книга знаменитого труда Евклида. Существует версия, что Евклид написал первые 12 книг для того, чтобы читатель понял написанную в XIII книге теорию правильных многогранников, которую историки математики называют «венцом «Начал». Здесь установлено существование всех пяти типов правильных многогранников, путей их построения и доказано, что других правильных многогранников не существует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157800" y="1643040"/>
            <a:ext cx="2772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285840" y="285840"/>
            <a:ext cx="59292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о есть и такие многогранники, у которых все многогранные углы равны, а грани - правильные, но разноимённые правильные многоугольники. Многогранники такого типа называются </a:t>
            </a: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равноугольно полуправильными многогранниками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первые многогранники такого типа открыл Архимед. Им подробно описаны 13 многогранников, которые позже в честь великого учёного были названы </a:t>
            </a: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телами Архимеда</a:t>
            </a:r>
            <a:r>
              <a:rPr b="0" lang="ru-RU" sz="2800" spc="-1" strike="noStrike">
                <a:solidFill>
                  <a:srgbClr val="9badc4"/>
                </a:solidFill>
                <a:latin typeface="Palatino Linotype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6215040" y="1571760"/>
            <a:ext cx="2610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3a1d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333a1d"/>
                </a:solidFill>
                <a:latin typeface="Times New Roman"/>
              </a:rPr>
              <a:t>Полуправильные многогранники: усечённый тетраэдр, усечённый октаэдр, усечённый икосаэдр, усечённый куб, усечённый додекаэдр, кубооктаэдр, икосододекаэдр, усечённый кубооктаэдр , усечённый икосододекаэдр, ромбокубооктаэдр, ромбоикосододекаэдр, "плосконосый" (курносый) куб, "плосконосый" (курносый) додекаэдр</a:t>
            </a:r>
            <a:r>
              <a:rPr b="1" lang="ru-RU" sz="3700" spc="-1" strike="noStrike">
                <a:solidFill>
                  <a:srgbClr val="333a1d"/>
                </a:solidFill>
                <a:latin typeface="Century Gothic"/>
              </a:rPr>
              <a:t>.</a:t>
            </a:r>
            <a:br>
              <a:rPr sz="3700"/>
            </a:br>
            <a:endParaRPr b="0" lang="en-US" sz="3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4" descr="img6.jpg"/>
          <p:cNvPicPr/>
          <p:nvPr/>
        </p:nvPicPr>
        <p:blipFill>
          <a:blip r:embed="rId1"/>
          <a:stretch/>
        </p:blipFill>
        <p:spPr>
          <a:xfrm>
            <a:off x="571680" y="1357200"/>
            <a:ext cx="3321000" cy="24037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79200"/>
            <a:ext cx="6997680" cy="1517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img7.jpg"/>
          <p:cNvPicPr/>
          <p:nvPr/>
        </p:nvPicPr>
        <p:blipFill>
          <a:blip r:embed="rId3"/>
          <a:stretch/>
        </p:blipFill>
        <p:spPr>
          <a:xfrm>
            <a:off x="4429080" y="1285920"/>
            <a:ext cx="4029120" cy="267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img8.jpg"/>
          <p:cNvPicPr/>
          <p:nvPr/>
        </p:nvPicPr>
        <p:blipFill>
          <a:blip r:embed="rId4"/>
          <a:stretch/>
        </p:blipFill>
        <p:spPr>
          <a:xfrm>
            <a:off x="2714760" y="4071960"/>
            <a:ext cx="35146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28760" y="78588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adc4"/>
                </a:solidFill>
                <a:latin typeface="Palatino Linotype"/>
              </a:rPr>
              <a:t>Кроме полуправильных многогранников из правильных многогранников - Платоновых тел, можно получить так называемые правильные звездчатые многогранники. Их всего четыре, они называются также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adc4"/>
                </a:solidFill>
                <a:latin typeface="Palatino Linotype"/>
              </a:rPr>
              <a:t>телами Кеплера-Пуансо</a:t>
            </a:r>
            <a:r>
              <a:rPr b="0" lang="ru-RU" sz="3600" spc="-1" strike="noStrike">
                <a:solidFill>
                  <a:srgbClr val="9badc4"/>
                </a:solidFill>
                <a:latin typeface="Palatino Linotyp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360" y="285840"/>
            <a:ext cx="51483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33a1d"/>
                </a:solidFill>
                <a:latin typeface="Century Gothic"/>
              </a:rPr>
              <a:t>  </a:t>
            </a:r>
            <a:r>
              <a:rPr b="1" lang="ru-RU" sz="4100" spc="-1" strike="noStrike">
                <a:solidFill>
                  <a:srgbClr val="333a1d"/>
                </a:solidFill>
                <a:latin typeface="Century Gothic"/>
              </a:rPr>
              <a:t>Тела Кеплера - Пуансо</a:t>
            </a:r>
            <a:r>
              <a:rPr b="0" lang="ru-RU" sz="4100" spc="-1" strike="noStrike">
                <a:solidFill>
                  <a:srgbClr val="333a1d"/>
                </a:solidFill>
                <a:latin typeface="Century Gothic"/>
              </a:rPr>
              <a:t>.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a1d"/>
                </a:solidFill>
                <a:latin typeface="Century Gothic"/>
              </a:rPr>
              <a:t>Кеплер открыл малый додекаэдр, названный им колючим или ежом, и большой додекаэдр. Пуансо открыл два других правильных звездчатых многогранника, двойственных соответственно первым двум: большой звездчатый додекаэдр и большой икосаэдр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Рисунок 6" descr="img9.jpg"/>
          <p:cNvPicPr/>
          <p:nvPr/>
        </p:nvPicPr>
        <p:blipFill>
          <a:blip r:embed="rId1"/>
          <a:stretch/>
        </p:blipFill>
        <p:spPr>
          <a:xfrm>
            <a:off x="5572080" y="1428840"/>
            <a:ext cx="336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Малый звёздчатый додекаэдр.gif"/>
          <p:cNvPicPr/>
          <p:nvPr/>
        </p:nvPicPr>
        <p:blipFill>
          <a:blip r:embed="rId1"/>
          <a:stretch/>
        </p:blipFill>
        <p:spPr>
          <a:xfrm>
            <a:off x="6215040" y="928800"/>
            <a:ext cx="220680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Большой додекаэдр.gif"/>
          <p:cNvPicPr/>
          <p:nvPr/>
        </p:nvPicPr>
        <p:blipFill>
          <a:blip r:embed="rId2"/>
          <a:stretch/>
        </p:blipFill>
        <p:spPr>
          <a:xfrm>
            <a:off x="4000680" y="3286080"/>
            <a:ext cx="4903560" cy="254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уроки%20по%20математике/урок%20золотое%20сечение/Фестиваль%20педагогических%20идей%20Открытый%20урок%202005-2006%20учебного%20года.files/img3.gif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28760" y="1214280"/>
            <a:ext cx="2500200" cy="328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9" name="Прямоугольник 6" descr=""/>
          <p:cNvPicPr/>
          <p:nvPr/>
        </p:nvPicPr>
        <p:blipFill>
          <a:blip r:embed="rId4"/>
          <a:stretch/>
        </p:blipFill>
        <p:spPr>
          <a:xfrm>
            <a:off x="3670200" y="5810400"/>
            <a:ext cx="5321520" cy="10112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7" descr=""/>
          <p:cNvPicPr/>
          <p:nvPr/>
        </p:nvPicPr>
        <p:blipFill>
          <a:blip r:embed="rId5"/>
          <a:stretch/>
        </p:blipFill>
        <p:spPr>
          <a:xfrm>
            <a:off x="500040" y="165240"/>
            <a:ext cx="8358120" cy="10112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8" descr=""/>
          <p:cNvPicPr/>
          <p:nvPr/>
        </p:nvPicPr>
        <p:blipFill>
          <a:blip r:embed="rId6"/>
          <a:stretch/>
        </p:blipFill>
        <p:spPr>
          <a:xfrm>
            <a:off x="0" y="4511520"/>
            <a:ext cx="367668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en1002kats_19.jpg"/>
          <p:cNvPicPr/>
          <p:nvPr/>
        </p:nvPicPr>
        <p:blipFill>
          <a:blip r:embed="rId7"/>
          <a:stretch/>
        </p:blipFill>
        <p:spPr>
          <a:xfrm>
            <a:off x="3429000" y="1500120"/>
            <a:ext cx="25099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10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4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400"/>
                            </p:stCondLst>
                            <p:childTnLst>
                              <p:par>
                                <p:cTn id="2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9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9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en1002kats_3.jpg"/>
          <p:cNvPicPr/>
          <p:nvPr/>
        </p:nvPicPr>
        <p:blipFill>
          <a:blip r:embed="rId1"/>
          <a:stretch/>
        </p:blipFill>
        <p:spPr>
          <a:xfrm>
            <a:off x="285840" y="357120"/>
            <a:ext cx="6181560" cy="41054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357120" y="457200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Изображения Леонардо да Винч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додекаэдра методом жестких ребер (а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и методом сплошных граней (б) в книге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Л. Пачоли «Божественная пропорция»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4" descr="img21"/>
          <p:cNvPicPr/>
          <p:nvPr/>
        </p:nvPicPr>
        <p:blipFill>
          <a:blip r:embed="rId2"/>
          <a:stretch/>
        </p:blipFill>
        <p:spPr>
          <a:xfrm>
            <a:off x="6572160" y="1071720"/>
            <a:ext cx="2322720" cy="3220920"/>
          </a:xfrm>
          <a:prstGeom prst="rect">
            <a:avLst/>
          </a:prstGeom>
          <a:ln w="76320">
            <a:solidFill>
              <a:srgbClr val="9badc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3786120" y="42876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Изображение Леонардо да Винчи усечённого икосаэдра методом жёстких рёбер в книге Л. Пачоли «Божественная пропорция»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7" name="Рисунок 4" descr="en1002kats_2.jpg"/>
          <p:cNvPicPr/>
          <p:nvPr/>
        </p:nvPicPr>
        <p:blipFill>
          <a:blip r:embed="rId1"/>
          <a:stretch/>
        </p:blipFill>
        <p:spPr>
          <a:xfrm>
            <a:off x="285840" y="714240"/>
            <a:ext cx="3517920" cy="5207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pacioli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429080" y="2857680"/>
            <a:ext cx="3786120" cy="3286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уроки%20по%20математике/урок%20золотое%20сечение/Фестиваль%20педагогических%20идей%20Открытый%20урок%202005-2006%20учебного%20года.files/img3.gi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00080" y="2714760"/>
            <a:ext cx="2500200" cy="32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Прямоугольник 5" descr=""/>
          <p:cNvPicPr/>
          <p:nvPr/>
        </p:nvPicPr>
        <p:blipFill>
          <a:blip r:embed="rId2"/>
          <a:stretch/>
        </p:blipFill>
        <p:spPr>
          <a:xfrm>
            <a:off x="249120" y="328680"/>
            <a:ext cx="87789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en1002kats_4.jpg"/>
          <p:cNvPicPr/>
          <p:nvPr/>
        </p:nvPicPr>
        <p:blipFill>
          <a:blip r:embed="rId1"/>
          <a:stretch/>
        </p:blipFill>
        <p:spPr>
          <a:xfrm>
            <a:off x="642960" y="1285920"/>
            <a:ext cx="3024000" cy="37861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500040" y="2858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Художественное изображение многогранников в разработанной Леонардо технике жёстких рёбер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42920" y="5286240"/>
            <a:ext cx="37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книги Ж. Кузена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«Книга о перспективе»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2" name="Рисунок 6" descr="en1002kats_5.jpg"/>
          <p:cNvPicPr/>
          <p:nvPr/>
        </p:nvPicPr>
        <p:blipFill>
          <a:blip r:embed="rId2"/>
          <a:stretch/>
        </p:blipFill>
        <p:spPr>
          <a:xfrm>
            <a:off x="5143680" y="1285920"/>
            <a:ext cx="2786040" cy="38336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7"/>
          <p:cNvSpPr/>
          <p:nvPr/>
        </p:nvSpPr>
        <p:spPr>
          <a:xfrm>
            <a:off x="5143680" y="5357880"/>
            <a:ext cx="314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Надгробный памятник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в кафедральном соборе Солсбери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en1002kats_6.jpg"/>
          <p:cNvPicPr/>
          <p:nvPr/>
        </p:nvPicPr>
        <p:blipFill>
          <a:blip r:embed="rId1"/>
          <a:stretch/>
        </p:blipFill>
        <p:spPr>
          <a:xfrm>
            <a:off x="2571840" y="500040"/>
            <a:ext cx="3857400" cy="47451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57120" y="5286240"/>
            <a:ext cx="82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adc4"/>
                </a:solidFill>
                <a:latin typeface="Palatino Linotype"/>
              </a:rPr>
              <a:t>Графические фантазии Маурица Эшера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rcRect l="0" t="0" r="3543" b="8399"/>
          <a:stretch/>
        </p:blipFill>
        <p:spPr>
          <a:xfrm>
            <a:off x="1357200" y="2357280"/>
            <a:ext cx="6626160" cy="4257720"/>
          </a:xfrm>
          <a:prstGeom prst="rect">
            <a:avLst/>
          </a:prstGeom>
          <a:ln w="76320">
            <a:solidFill>
              <a:srgbClr val="9badc4"/>
            </a:solidFill>
            <a:miter/>
          </a:ln>
        </p:spPr>
      </p:pic>
      <p:sp>
        <p:nvSpPr>
          <p:cNvPr id="147" name="Прямоугольник 4"/>
          <p:cNvSpPr/>
          <p:nvPr/>
        </p:nvSpPr>
        <p:spPr>
          <a:xfrm>
            <a:off x="214200" y="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Холст, на котором написана "Тайная вечеря" Сальвадора Дали  имеет форму золотого прямоугольника. Золотые прямоугольники меньших размеров использованы художником при размещении фигур двенадцати апостолов. В центре картины расположен додекаэдр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3" descr=""/>
          <p:cNvPicPr/>
          <p:nvPr/>
        </p:nvPicPr>
        <p:blipFill>
          <a:blip r:embed="rId1"/>
          <a:stretch/>
        </p:blipFill>
        <p:spPr>
          <a:xfrm>
            <a:off x="-79200" y="2749680"/>
            <a:ext cx="93992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2100240" cy="23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286680" y="571680"/>
            <a:ext cx="2143080" cy="237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3786120" y="2928960"/>
            <a:ext cx="2000160" cy="26416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6" descr=""/>
          <p:cNvPicPr/>
          <p:nvPr/>
        </p:nvPicPr>
        <p:blipFill>
          <a:blip r:embed="rId4"/>
          <a:stretch/>
        </p:blipFill>
        <p:spPr>
          <a:xfrm>
            <a:off x="3243240" y="5467320"/>
            <a:ext cx="309708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2"/>
          <p:cNvSpPr/>
          <p:nvPr/>
        </p:nvSpPr>
        <p:spPr>
          <a:xfrm>
            <a:off x="4294800" y="22507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Прямоугольник 8" descr=""/>
          <p:cNvPicPr/>
          <p:nvPr/>
        </p:nvPicPr>
        <p:blipFill>
          <a:blip r:embed="rId5"/>
          <a:stretch/>
        </p:blipFill>
        <p:spPr>
          <a:xfrm>
            <a:off x="-96840" y="2955960"/>
            <a:ext cx="3930480" cy="1463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6"/>
          <a:stretch/>
        </p:blipFill>
        <p:spPr>
          <a:xfrm>
            <a:off x="5931000" y="2882880"/>
            <a:ext cx="30798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357120" y="314316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Многогранники были известны в Древнем Египте и Вавилоне. Достаточно вспомнить знаменитые египетские пирамиды и самую известную из них – пирамиду Хеопса. Это правильная пирамида, в основании которой квадрат со стороной 233 м и высота которой достигает 146,5 м. Не случайно говорят, что пирамида Хеопса – немой трактат по геометри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1" name="Picture 3" descr="pyramida-gs2"/>
          <p:cNvPicPr/>
          <p:nvPr/>
        </p:nvPicPr>
        <p:blipFill>
          <a:blip r:embed="rId1"/>
          <a:stretch/>
        </p:blipFill>
        <p:spPr>
          <a:xfrm>
            <a:off x="2571840" y="285840"/>
            <a:ext cx="360828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   </a:t>
            </a:r>
            <a:r>
              <a:rPr b="1" lang="ru-RU" sz="4600" spc="-1" strike="noStrike">
                <a:solidFill>
                  <a:srgbClr val="333a1d"/>
                </a:solidFill>
                <a:latin typeface="Century Gothic"/>
              </a:rPr>
              <a:t>Правильным многогранником называется многогранник, у которого все грани правильные равные многоугольники, и все двугранные углы равны.</a:t>
            </a:r>
            <a:br>
              <a:rPr sz="2200"/>
            </a:br>
            <a:endParaRPr b="0" lang="en-US" sz="4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6760"/>
            <a:ext cx="84009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333a1d"/>
                </a:solidFill>
                <a:latin typeface="Century Gothic"/>
              </a:rPr>
              <a:t>Существует пять видов правильных многогранников: тетраэдр, гексаэдр (куб), октаэдр, додекаэдр, икосаэдр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Рисунок 4" descr="1001550-4664_002.gif"/>
          <p:cNvPicPr/>
          <p:nvPr/>
        </p:nvPicPr>
        <p:blipFill>
          <a:blip r:embed="rId1"/>
          <a:stretch/>
        </p:blipFill>
        <p:spPr>
          <a:xfrm>
            <a:off x="1143000" y="1643040"/>
            <a:ext cx="68342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753920" cy="19670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2"/>
          <a:stretch/>
        </p:blipFill>
        <p:spPr>
          <a:xfrm>
            <a:off x="2127240" y="79200"/>
            <a:ext cx="6370560" cy="2340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42920" y="2428920"/>
            <a:ext cx="878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Теорема Эйлера о числе граней, вершин и ребер выпуклого многогранника: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badc4"/>
                </a:solidFill>
                <a:uFillTx/>
                <a:latin typeface="Palatino Linotype"/>
              </a:rPr>
              <a:t>для любого выпуклого многогранника справедливо соотношение Г+В-Р=2, где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badc4"/>
                </a:solidFill>
                <a:uFillTx/>
                <a:latin typeface="Palatino Linotype"/>
              </a:rPr>
              <a:t>Г-число граней, В-число вершин, Р-число рёбер данного многогранника.</a:t>
            </a:r>
            <a:r>
              <a:rPr b="1" lang="ru-RU" sz="2800" spc="-1" strike="noStrike" u="sng">
                <a:solidFill>
                  <a:srgbClr val="9badc4"/>
                </a:solidFill>
                <a:uFillTx/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Теорему Эйлера историки математики называют первой теоремой топологии - крупного раздела современной математи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2786040" y="357120"/>
            <a:ext cx="6143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Пифагорейцы считали правильные многогранники божественными фигурами и использовали в своих философских сочинениях: первоосновам бытия - огню, земле, воздуху, воде придавалась форма соответственно тетраэдра, куба, октаэдра, икосаэдра, а вся Вселенная имела форму додекаэдра.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Их поражала красота, совершенство, гармония этих фигур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2541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img5.jpg"/>
          <p:cNvPicPr/>
          <p:nvPr/>
        </p:nvPicPr>
        <p:blipFill>
          <a:blip r:embed="rId1"/>
          <a:stretch/>
        </p:blipFill>
        <p:spPr>
          <a:xfrm>
            <a:off x="142920" y="1285920"/>
            <a:ext cx="8773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50:43Z</dcterms:created>
  <dc:creator>26548</dc:creator>
  <dc:description/>
  <dc:language>en-US</dc:language>
  <cp:lastModifiedBy>26548</cp:lastModifiedBy>
  <dcterms:modified xsi:type="dcterms:W3CDTF">2010-06-04T11:08:19Z</dcterms:modified>
  <cp:revision>2</cp:revision>
  <dc:subject/>
  <dc:title>Презентация PowerPoint</dc:title>
</cp:coreProperties>
</file>